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0D9-A003-4699-BA64-C29CA536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F37-5EC9-4B5D-8FC5-94D97B5B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8D3-3716-4E98-9277-0ABADC40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AEC-F2E6-46FD-90B7-C9CE0364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0AEF-01B2-4270-8F7E-327F1D68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F30A-3ED2-4496-ACE3-1323CB0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2482-3006-427E-AAD6-48E53E4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E459-B585-44BE-BF7E-9D0E39D8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3547-C726-41EE-9AC7-C4F3AC37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FC6-EA84-4717-AF4F-715F7558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BA9C-6224-4E24-A79E-51F7129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C9D-71E0-45B1-9B4C-8F0D4D15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56A9-F3AE-4EDE-9086-33D12D6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FCC5-99DF-4E9F-B2CF-E443634D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555-8913-455B-9522-DEC589E6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9CBC-0ED6-43FB-9A20-99C9ECC3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12E-2F51-45F6-9F8A-A18F56D5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598-B1B8-4A11-8F95-9393433A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07C-8A7B-459A-ABF8-956A03F5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657-073C-4280-9C46-CA6D2BE3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2BE-31FE-4303-B7CC-B3F85841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4DE-C30C-4B8E-BE82-5C616092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5CE-FBCC-4E11-A6E6-0791F3B7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1F5-029B-4548-8501-AA92357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F087-1375-4C10-9767-E792E5BF93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35CD-991B-4FAF-82E9-9949BEEF7A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ericanrhetoric.com/speeches/fdrpearlharbor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rBWWZ-ZEydc&amp;feature=related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The Attack on Pearl Harbor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87" name="Picture 5" descr="pearl harbor 1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pearl-harbor-uss-virginia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uss arizona's forward magazines explode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4c6d80"/>
                </a:solidFill>
                <a:uFillTx/>
                <a:latin typeface="Garamond"/>
                <a:hlinkClick r:id="rId1"/>
              </a:rPr>
              <a:t>A Day Which Will Live in Infamy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09" name="Picture 4" descr="fdr_congress"/>
          <p:cNvPicPr/>
          <p:nvPr/>
        </p:nvPicPr>
        <p:blipFill>
          <a:blip r:embed="rId2"/>
          <a:stretch/>
        </p:blipFill>
        <p:spPr>
          <a:xfrm>
            <a:off x="2057400" y="1143000"/>
            <a:ext cx="5229360" cy="5410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merica Declares War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FDR’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se declares war: 388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ate joins unanimous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41129DecofWarJapan"/>
          <p:cNvPicPr/>
          <p:nvPr/>
        </p:nvPicPr>
        <p:blipFill>
          <a:blip r:embed="rId1"/>
          <a:stretch/>
        </p:blipFill>
        <p:spPr>
          <a:xfrm>
            <a:off x="1828800" y="2658960"/>
            <a:ext cx="6892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merica Joins the War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 and Italy declare war on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partite P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11212DecofWarGerItal"/>
          <p:cNvPicPr/>
          <p:nvPr/>
        </p:nvPicPr>
        <p:blipFill>
          <a:blip r:embed="rId1"/>
          <a:stretch/>
        </p:blipFill>
        <p:spPr>
          <a:xfrm>
            <a:off x="2133720" y="2514600"/>
            <a:ext cx="6781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What was the relationship between the United States and Japan prior to 1941?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supplies Japan with much-neede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crap metal"/>
          <p:cNvPicPr/>
          <p:nvPr/>
        </p:nvPicPr>
        <p:blipFill>
          <a:blip r:embed="rId1"/>
          <a:stretch/>
        </p:blipFill>
        <p:spPr>
          <a:xfrm>
            <a:off x="5410080" y="1600200"/>
            <a:ext cx="299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What events lead up to Japan’s attack on the United States?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mbarg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ese expansion in Ch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DR tries to s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al or complete prohibition of commerce and trade with a particular country, in order to isolate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val and aviator supp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il, iron ore, fuel, steel, rub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Tripartite Pact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xis P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ssist one another with all political, economic and military means when one of the three contracting powers is attacked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xtensive embar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938_Naka_yoshi_sangoku"/>
          <p:cNvPicPr/>
          <p:nvPr/>
        </p:nvPicPr>
        <p:blipFill>
          <a:blip r:embed="rId1"/>
          <a:stretch/>
        </p:blipFill>
        <p:spPr>
          <a:xfrm>
            <a:off x="4876920" y="533520"/>
            <a:ext cx="38383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Hideki Toj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41: Japanese Prime Min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y expansion—keep U.S. neut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mpted negotiations fa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rejects Japan’s de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ideki tojo"/>
          <p:cNvPicPr/>
          <p:nvPr/>
        </p:nvPicPr>
        <p:blipFill>
          <a:blip r:embed="rId1"/>
          <a:stretch/>
        </p:blipFill>
        <p:spPr>
          <a:xfrm>
            <a:off x="5029200" y="1066680"/>
            <a:ext cx="3700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cember 7, 1941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01" name="Picture 4" descr="300px-Attack_on_Pearl_Harbor_Japanese_planes_view"/>
          <p:cNvPicPr/>
          <p:nvPr/>
        </p:nvPicPr>
        <p:blipFill>
          <a:blip r:embed="rId1"/>
          <a:stretch/>
        </p:blipFill>
        <p:spPr>
          <a:xfrm>
            <a:off x="2133720" y="990720"/>
            <a:ext cx="4952880" cy="35319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pan focuses on Pearl Har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dicate American naval and air presence in the Paci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 American resistance to Japanese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240320" y="41148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Day of Infa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japanese torpedo attack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PearlHarbor04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2:05:06Z</dcterms:created>
  <dc:creator>Owner</dc:creator>
  <dc:description/>
  <dc:language>en-US</dc:language>
  <cp:lastModifiedBy>hberndt</cp:lastModifiedBy>
  <dcterms:modified xsi:type="dcterms:W3CDTF">2010-03-24T13:31:18Z</dcterms:modified>
  <cp:revision>8</cp:revision>
  <dc:subject/>
  <dc:title>The Attack on Pearl Harbor</dc:title>
</cp:coreProperties>
</file>